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8B1-CCE5-45A8-9AFB-ACF7FD51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38B-7BBD-49AD-82DD-BDA2E618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0F8AA-1499-480A-BF7D-2021A3D6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BBD74-04DC-470B-A163-36B57EAC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7BD37-0F7A-4FF3-9C59-15132282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6A4A5-086B-4C51-8F49-A7AF0AD5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9046C-EDA8-464A-B02F-8542F582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193B7-AEA0-4D26-8FBE-BE1AB298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E7D9E-5027-4A36-8E26-68902E15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E817C-16E2-479A-ADB9-34CB26E7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77FD2-4CDF-4272-A454-04248F5F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227B0-D8A0-4B8C-8F16-EA55DC53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98E4-360C-408A-AF14-60F88532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7D863-C962-443D-9796-88787736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D5D27-A835-40B2-8A7D-EB68A801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BF417-AC00-40B0-B43A-A81E2D3A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2C02A-6518-48B1-8298-936EE84D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BF23C-C93E-4587-81CE-AB7CADD5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FB0A2-7275-4034-9A03-6ABF317B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2F470-292F-463B-BD5F-92F9C40E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24024-387A-4684-83FD-41142A05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04FF7-6DAA-47E3-B1DB-247EBDDB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0DE40-D026-454E-A88B-F3947EFF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556-4E0D-4C8F-A2C7-8E8D6014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6DE2F-6F4A-4760-80CE-ED302D56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2F6AC-C469-428A-AA88-CC21A4F4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0A7A4-C22D-46D2-BF5A-161CFB03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E30A7-0D73-4B28-818B-864E0F70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3F41C-E095-45AD-96ED-A3DBDD1C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6AF8E-208A-4B1B-982F-FF1FC447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1DE0E-B952-4DE6-AB6B-8588ABAB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D9A76-CA91-4071-8334-4FF7A0B8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3E632-A839-4F5D-9F95-07F9FE2F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9C79E-430C-4168-B439-F1294D04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5C24-C915-47E2-A969-ADA3E672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999C8-FC21-471B-B3C5-54B1703F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B8B8C-AB3D-4504-B4AA-E5FB3FF6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47BEF-8309-4356-B46C-644BF23A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6C389-80BB-4EC1-9F6B-FD357BC3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80A9A-CFA1-4459-BE29-0BDA0941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7B6AE-6A15-41B0-8902-7E392FB6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CD2CE-518B-4110-B269-BB1D6E8C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AC931-3503-4007-8B71-78E6FCB2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63E1B-CA24-4CB2-948F-E5BD296D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234A4-B600-4E92-80C8-3D6B212B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59B1-D4A1-46FA-89D4-210F28F3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5FF88-9409-441D-B008-DCF1D563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823B3-A98C-44AF-816A-0A582E61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2361D-2CC6-4102-BDA4-64D3E726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41171-03B2-40FC-A368-8A60A773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2769F-F6A8-4D7D-AA3F-FBC5DEBA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6FE2F-C5E3-488E-8168-1407FC75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BCA8A-FE8C-4CF2-AF04-C16E79A7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FD186-6DF0-468D-972C-600C90EF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45086-7806-45C1-9CDD-32FF729C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AFF65-E4D6-4A9C-881D-3039CAB0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8B07-6658-474D-8727-7F2F3BB8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7E002-4E1B-40B3-9A66-103B5035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331311-CA56-4A8E-98AC-CB5CA57B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C7A1E-1EE3-49B8-9EC9-AB40325E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214D9-08C3-4782-8530-EAF9523F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26D53-BAC6-40F8-A661-BF80A88C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6D4F0-C963-4C64-9D91-A9EBF812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DFA397-C686-4B48-9C9B-90BE1396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E5E076-FCA4-4C7F-9EC7-633637A8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659C65-9686-4F76-9CE5-DFFD3F37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A76F4-96DF-4325-A6A5-AD0F5A21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4545-6457-43C2-BA15-C123C84C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4BB2A1-9BAC-4937-A456-57623B51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99A90-85A6-41AE-AFC9-92B0152D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2251FF-6FD0-4950-B69B-71C87843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73ED37-8696-40B8-8947-08F54051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BF80A8-6613-4FE0-A7ED-173E1288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0D8D3E-2219-4B96-8F6D-797E90A3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26EBBC-DFF9-429F-B5FB-B84D32E0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7F07A1-14B7-4586-B180-485EB9FA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2B1243-774D-4326-ADA7-7FC1B307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E8DA52-3574-49F9-B7DE-13968DD5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E1C6-656F-48F5-8F87-D1A7F617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46708F-0580-492B-B50B-E534AFC4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DC6953-4921-4401-A199-37170A18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0A0A94-F66E-4714-820D-A79B0059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5DCD5B-1834-4195-AFC3-87D99ED1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50EBA1-E824-4433-9DEA-75F1FB3B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A75974-87B5-4CDC-B11F-74ED180D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E5F792-0BD4-4041-90CF-32F81C07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53EEDB-8079-4E19-B333-C61BB408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3A52B7-C4D0-482C-9CFF-6DB9DBBF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E55FB3-5DC2-4F10-AC1F-597C179B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089E-9495-4851-9856-387D98BC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CACBAE-13C9-43CD-89A0-1427F5AC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545306-929C-4989-8870-DDB8CE25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E082EA-1D1D-4E3C-B303-BC2728AA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B7E24A-C456-4EB6-8767-5735220B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8F956B-78AC-4E83-8FDC-EE50C618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CCD6B4-FB14-42AB-8253-A3522D1E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FDB050-5BA0-401D-B517-7498B1CC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F00322-4D6D-4D6B-AD63-CDA8C75F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AB5D5-E7F1-485B-8AAB-E3FAE531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B6C06A-51B9-46FA-AB68-41D718B1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ED30-E92B-431B-A59A-F0E5FF5C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A05EBF-93AD-432D-AF9E-7A31B5E1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52E07D-24B2-4478-9F57-FD380290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4F8636-7EC4-415D-9447-5FCDA8DB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E997E9-FDBE-42A6-BD52-4A974ACF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2462F-66FE-48FE-9476-528CFE92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76C977-85F4-4F1A-9A46-374715AB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5D2B65-CDB2-414E-8956-5800F0CA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AB4F7D-315C-4FAB-9003-BA2ACD3A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DB021D-2506-4AB3-87B2-45994C71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DFCCE6-7A24-40A5-B37A-78F8DEDA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61C1-1099-436E-906F-9BE778C9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4E30-969A-4C4B-A45D-70D76211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504E2F-6EFB-4C9F-AD5E-C8C47A64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3F1DF0-DF62-4AA0-BE47-48FF3CB4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2D8B5C-257C-40B2-8506-620D2E9D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528735-2509-473E-95E7-BD1DC697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702171-4329-4642-9A01-53D88FEE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E81B66-9CE4-42E1-B56F-94814E7D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418676-FEA5-4744-9EEB-A0B2D508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EB533A-0D73-49E0-9740-24E71B13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48BF14-BBF4-4584-8226-38C807BF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733EC6-86AB-4D2D-B601-E87B3EFC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0CA2-956E-4FF5-BA1F-09018092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68461D-7EBD-49FE-A6B6-7D6C9639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452326-F7C0-4EDD-82BC-94F64F36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74B249-C54A-48BE-88E9-69756C61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A9BB32-A281-4F83-BA93-3BAC302E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23115D-878B-4836-8D19-10C530F0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334704-9DB6-4111-88D9-A1E4CB26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FC37AC-1551-4C47-896F-84CB3602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EFD770-1436-4ADF-B70D-95A034F3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89AB60-B3CA-4479-B452-018B8737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5CB10C-3093-4AFE-882C-2F6FE27C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2B96-0859-4502-BF4B-0169A6C3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E7B123-BC82-4A38-A908-8942E101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15D629-52A6-4D61-8031-9ABECA16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6DCEFB-016B-4374-AB85-DB96961D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907711-A71B-4A37-B497-01E35CE0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F7FF66-6BE6-495F-9E44-1B75718C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D4B580-FF87-4270-95D4-0C574488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21D03D-511A-4F31-8536-D921A8E3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B02D40-DAF4-49BC-AE48-8CBBF984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A4A41E-5BB4-4B8E-8306-860992BE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7D7085-31DF-492E-BDA8-AA17ADDF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33E1-88CF-45B6-8984-9CF276D1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733464-646C-4961-AD42-EEB13C9D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2B4A13-1BA1-4EAC-BF1D-83FC6CE7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8F570B-5D7F-4B79-9E95-299462A7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26F57C-6E1E-4C0D-A9D2-C98B52E1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E182E5-0490-4875-B76E-A6ADDEB9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EF3F6E-A4E1-458D-BF9A-BC82DF54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5727D8-7E7B-4F52-9549-4903CCA8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836EE1-CFEE-467C-BC71-C3F13FD1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117951-9ADD-4B0A-8D4F-7D89B965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880974-4897-4418-B016-0038029C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3060-5847-4C23-A580-E5F46872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EBA0BA-D992-46DE-9FEB-6296A676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73C5A5-94D0-44F0-8116-122E4D20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B05BA1-72DF-4608-80F0-64953046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0118CF-2B5F-4AA7-85F3-A1700CBE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D02C8A-5BB4-4CF9-880D-7B86CD15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132FDF-3176-4691-8590-9BF0B25C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415747-C497-41DB-AE3F-8CE98B8C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8E87A1-A5EF-4937-8E76-47852206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9597EB-165B-4A39-BCA8-EAA6949F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738021-F86F-4660-AF04-E8932716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7273A-1767-4F19-890C-F908C3FC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29D309-1F4B-429A-A4AA-C06497C9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62073C-C439-4C69-967B-644C6771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76560E-24E4-4EEF-9910-E09D6737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C78335-3CAD-4F62-985E-D62E654F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D8F66A-C08F-4D02-A992-5927C95E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B18ABA-CF6F-4C7B-BB3D-B9274E28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5B89AF-480F-4A7D-8DC0-3B240B59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EC8585-D8AD-4EC8-949B-2489277C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5999F3-7EDD-44B3-8386-2D7402B6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F002F6-9697-49A6-9593-941B96C6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5BA3D-27AC-4B8E-A99E-C7A9CEEC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11A90C-86E5-492C-9401-E0F5AE32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98D094-486D-40AF-8BDC-0D12F71E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4295D3-C0AB-4548-9452-FE8D1DCF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7376B4-175C-4021-80B0-4935CE52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AC4651-7047-479F-8A27-8351DF5C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268E22-7A08-4E2C-A371-AAF851AD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CF5344-1100-472C-9435-8FD8E1E4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837E0B-E576-4E3C-9C3B-C0886A76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FF855B-7A5A-415F-AE28-6D5FF89F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866B03-F899-457D-9D5D-832EBB9A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4E779-84D4-42BF-BD94-D9DE3F76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6E45E5-1CEC-4462-B0E2-3A6DF020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D6ACE8-1E31-4119-9C9A-C5041512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45F44A-1B0F-4E4B-B67B-3D2DC640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2E802B-9674-4CAF-ABEC-BEB9191F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028EB7-12FE-4676-9890-DE83341D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AB1353-4045-4723-BDA0-E27A3C8F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5755D1-B3FC-4E33-A503-897CB135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193788-E58E-4549-BF2F-2F77FD0E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ACAE09-E6E2-43A0-BA73-13AFF978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748FD8-2B0C-4418-B2EF-24E40F30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4DBA9-0E82-4F38-93B7-D0B93D10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211A52-A9FB-460D-8108-E1E4FF70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E13CBF-99C6-4E71-8C20-E5E3DA7A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FFD499-CC0A-4CF7-B279-0274CB3E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4891B7-77A5-4371-92DD-1A4DAD80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9F7998-FB03-4177-A8A4-52A36A0A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3525E5-A854-43A5-ADE8-697FE4C1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42CD16-986F-4BBC-A607-DCFF6BAA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AB4C79-5A5E-4D19-866E-93AE7A9A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A920E4-D448-4C3E-AEF3-DA54AF90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4500B6-A1B7-4979-AE56-DF77C80D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50280-03F7-49AE-82D6-7599DC70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CA3F2B-2FF5-468C-8DD2-5DE52F18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C1E086-09C6-45F1-9EED-B9967B64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9DB10C-25C9-4561-B514-7E0650F6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A44396-5044-405A-980C-20633C56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1F85F8-B29E-4B73-8AA3-5DAEF60D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FA77EB-ABCB-48B2-A7E1-D046C9E1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CE3B6D-7C75-4983-BDC2-685D7B6E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3968FF-E677-4CA2-9404-58D43F00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94DC8E-9CF3-4164-93B1-C2350B3A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5E7AD8-D864-4165-B705-57C871BF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DA75-CD0B-49F5-9B77-6FE39F94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BC097-FBED-4A26-AAEF-3A5748C7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3BE236-392F-485D-B29A-550BA168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79F294-EA40-4578-AB6B-BCE7F1E7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C1524C-0C2F-48C3-9B70-4463BBD0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B08C57-7CAE-444F-8969-AFC83B85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82AEB0-6AE1-4CA2-9610-25622EF2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D347E5-F9AB-4BD0-AC44-FFE08DBB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966F23-3F45-45F9-95E7-BF87F609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F8CFB0-83E0-42B0-932B-9FD2CBA2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28493D-ACBD-4E78-9D15-5F44ED4E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3D9868-8759-4FF3-979D-BB0C21FA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193ED-1FDA-45C1-BD20-9DA93614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CA6A09-22CE-4A08-A076-C6FB8292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B6A6D6-71D1-445A-83B2-B25DCF60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D757B8-3F9C-4AB1-A938-1615D44F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60D1ED-6365-4C41-B320-6B10A382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734AB8-DD43-4B8F-B019-69CF7A5B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E7ED35-63D7-4C33-98B8-EC503F5A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678115-8B3D-4899-BD4F-307FF6C9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01B78A-18A5-495B-AC85-97D20B5E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9F4324-FBA3-409D-B396-83C210A7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4468BD-7238-4830-A9AF-269A777B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69A40-2788-4A06-98D3-D0856BDA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D44A73-AE65-48B5-8D6C-A6D28AF9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246BC3-5AFB-416A-B74E-0F347FA4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5ABE6C-2F8A-4747-8703-09A4FB55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D6B43D-2995-4709-8332-E12B6416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71302A-3DA9-40D7-B75A-7B1B2B7B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260348-0BDF-4ADF-9EF9-953C9E1C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FF1780-08BC-4D65-B286-D6161EEC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74938D-DCF9-4CEF-AFF4-AFD636F4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E8F7B6-60B0-4213-AF77-7555E565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334302-D534-401C-ACE4-50D63E7E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B007D-9EB4-430D-ABD2-734668E1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8EC067-D108-4902-A476-2FB7CDD2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72B56D-B5C3-461F-A20C-739FB6ED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4C2922-E60B-4E2D-B411-3FEA3F43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41D31C-D128-47C9-9392-A5D9CDFE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532D5C-EA12-4948-A101-9F046C24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21B858-9319-48F3-8146-1CF65373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782446-BFC6-43F5-9466-0E0670F4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3E9A61-D7BE-422A-B611-E1132662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F9FD2F-E8DC-46F8-B466-CF1B80A7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9591D7-B536-45F4-805E-99280982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513A4-383C-42C0-9E26-9FD4FF22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FA8094-B148-4B57-B1B3-760133A1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3B2627-8023-482B-B753-8192DC61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5B9D76-41AB-4063-B6AD-0DF4BDCA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17D67F-990A-4F9F-9611-C9B946AD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00D4C0-434A-4E63-9419-217A24E6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DE44A8-A555-466D-8803-A2FD6672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84EB41-4B4F-4D13-82A3-B8880794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907D45-BFFB-461F-9494-A6AF483E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0BBB75-1468-4A74-92E0-607AE9A1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7DE1E2-FDDC-4EA6-B421-A80C3D91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B3DE2-9B98-4032-8837-9031FC86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6CA2B6-1C05-4AC1-A597-DA469149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61004B-2695-481F-8654-7BBBC1BA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EA5618-D267-4E03-96D5-CB07BFE4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A4B142-4AC0-4A85-A9A4-CDCBA36A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8F5B11-DC64-4B28-A641-03D1392F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3AA1C5-6872-46D8-BDAD-E1FE17FB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2189FA-819B-4F58-9039-101BDB86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9B04D5-DA15-4E67-B492-ACAB9AE5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86C3F0-C3F0-496C-83CB-910DE51E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020CF6-851D-4C9C-9A46-E92F68DE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18502-2A96-4D94-A682-7C9E1162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2D8F2A-E4B6-4637-BA75-1D85F731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A2CA23-156B-4781-991C-1E8C6C6F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3A39EC-773D-4B95-9C4C-AE54903B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3A3B0E-FACD-4F7C-BF11-C202BE34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D79B73-615B-4FED-9789-5F70FF49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B007D7-4994-4E33-AC9B-DB735192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47EA2E-E083-4515-BDCD-1E591AF3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4054D2-AC00-4734-B161-E1750363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7046DA-DB1A-4E96-AEBE-57442990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BFA515-78A5-4B59-9C96-C15723F5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4C88F-84B6-4E97-8C46-42A11B56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30785F-222C-4A2B-92F9-DFDD5F14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779F75-70AA-40B7-899C-E83F5A8E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84E362-202F-4100-A35E-86B5131E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661AA-BA76-48FF-9998-98FCEA79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7B691-6062-4B1F-BCA3-76770670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04DE-0E53-42A2-9281-E5614932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82069-1F9F-4127-84EF-F99F47F2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00347-145E-4CDA-88E8-3E239B77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2F4C8-2665-40CC-9445-0540B449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8EB3A-E430-46F5-A565-4D9E750E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7AA40-2A3C-4146-A245-672787D0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E2C77-B0C9-40A4-BB50-A31421FA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4A353-1D3B-404D-9BF7-AE88C40A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34FFB-D185-4421-BCA8-B7F701A6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6F793-C3A6-4008-A7BF-F43394FE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EE065-55DB-4DD3-BFAE-59E0729A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DDD-3F29-4F6F-BBB9-20D687E8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74CF4-E267-4844-9060-425B6D09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F7ABF-0098-4953-8151-1F1D23F2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B642F-A339-4B12-8694-AA7BB441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060D2-0BDB-42A1-A595-CDBFC6F7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3E9FF-ADD6-4E70-9C72-EBDD708E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B8E8A-9E75-4941-AE9F-AFEF5DBE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13497-5E81-4208-A038-533D46A6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F5AE0-5F4E-482A-9A50-3D9EE23D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3A321-1D68-437C-998B-C84CA83B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5D962-2F30-430B-9BE1-BA1B3088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A050-DB41-4D3B-AC59-CEB7F80A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6BD7F-3FD7-4D06-B803-225AC409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E08E5-7F22-46BC-939A-AEDD2BB8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2BFC9-DE91-4A68-A39B-551D397D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4CDFA-862A-4D40-892F-6F3703A4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10E0E-6172-4DC8-A72C-13C7E6EF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F34E0-9AC7-4B84-AA60-CE217635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66B86-B79B-417F-B88F-70FE55B7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25D0C-5043-42C5-A470-CF1B70C8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03AC3-F090-4910-B274-2F118D38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06101-443A-4606-9258-AE560D7E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12B-E81D-4933-A84C-426529E5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CD044-EB25-45DA-A148-AB5E1DC7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BC577-45CE-44A9-A065-0DE7DD7B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35DEE-77E1-4BF6-9B77-189FDEC2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2C612-F4C6-4DAC-A090-77C01255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51EFF-3A71-450B-839F-1107CE85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44C4F-BAF4-4116-8949-F44BF052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403C4-78F3-4073-B04B-11F4F931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9A35C-337D-457E-8DCB-5E82468D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9FA59-8BE2-4C68-BED8-53FA411F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12706-7C82-48EA-9386-3A94D6FC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B553-55E0-4733-B6FE-137259DD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EE7AF-810F-43B4-AA1E-33ED8AE7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3ADF9-D1E0-4D60-BD20-71E302AC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DD9C9-C00B-4AED-A4E3-876FDF79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7BC48-6AD4-4596-A751-A588D3EF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E79BD-E62D-4CBE-9826-B3834ADE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837BA-AF86-4AD2-888F-A357CB32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E7B0C-5CCF-4A95-8982-981B6442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24DDC-A95C-4362-B097-681DF165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07376-2867-4D36-8B5B-B16F7CAB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A2368-8BFE-4F03-B931-B0DDEA34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513-C103-4F66-85AE-B3CF4605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2EC5B-A3B8-4BD9-B9A3-9967DC18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4ED26-857D-4A74-B392-9ABFE898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DF702-6316-4F3D-A283-0A0C4A4E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56EF0-C192-4961-A8E5-8A0CD33E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22754-30DB-4A84-99D7-11676172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D74CC-3BB7-458C-A8E5-89ABE64A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AA9EB-ABA9-484C-BC22-2FFC9BB0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5F113-BFBB-4071-8DD2-D9B1CA61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4D60D-D70F-4702-AEC1-D7662C52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2376E-C720-4346-9CC2-5FE717D6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FE13-A597-44FB-B99E-970274B246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492F-1B39-43F2-A3F5-6A7F1F9F00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0895-77DF-4AEB-9D98-FD529696EF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3351-FC45-49D4-9094-0E7D9394D7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ABF8-403D-4AF1-BF07-03936EF836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4D0C-C065-4A69-BE18-45935C12AC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CA8C-528D-487F-AEB8-2A83152AD7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B0C0-B69F-4731-9363-E8070CD32D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5FB1-37EA-4A9C-8B3B-9C6D03157E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DB83-F554-456A-8FAA-624C5C596E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9E51-C019-4F15-B38A-F29767EB6E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CF35-76FB-4FC2-82A6-ABFF40C1B2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0A98-9634-48B9-B3AE-EF0683A873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3FB0-FCCE-4A00-9CD5-0ADE080B33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088A-DD5A-46F8-BE5B-F7AAB58547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EEF5-0874-45E7-93A2-31C82A629E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5CCE-99AA-4E80-9932-A80A8DFBC2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52DF-278D-48E3-8B97-CD04681DBB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6501-0CE8-4749-B86A-EA3A76D6A5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99D1-83A2-451A-BFDE-E6BE8B757C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5FF0-16C0-494F-ADC2-7B0652DBA6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0BE3-B912-4000-9EBA-E9E99A3193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A925-3021-4897-B7AF-1755CD6C3F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6BBA-7A20-4DDA-A626-276A36DD54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865F-32B1-48F3-B39C-3BA2ADBEA5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BD14-4C7E-47AE-8A7E-65879677E4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02F3-C74D-45C0-8752-2093CC2D18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BFC5-FB05-4B59-9AD7-84BB8518A8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130F-3165-4C71-BC24-74421409F8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3B94-4BC7-4455-9E2D-9E0211A68B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29E5-9C74-44A7-AEAC-B97122C8B4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CB36-A26C-43E1-A4D0-C4F38833C4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FB5B-7B69-4ADB-84A7-724120916A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899C-76E9-44C3-A797-66C52922BC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ED7D-2AC7-44F2-BA56-1810C1C691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CB1D-3BFD-4B7F-B6E8-CEDF79486A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4380-9A94-413D-A0FA-D6558B2506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5049-429D-49A2-A666-4F0D56F1E6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1E4B-5F06-4B25-85E7-D747190B0C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A0AF-CDC2-4AFA-A91C-BFB1B32AD2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018A-A6D2-4197-A5A0-FE45A2397D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D96D-4651-462F-9C52-A5257420D8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16A0-4D93-4DAA-847A-EC63596206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C086-6429-48E2-8879-2B8A19DE4F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C4D6-E9FC-40F0-89B0-68E22BF2C7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5ACA-6C20-4E76-8E03-740D399575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8879-A0EE-4104-A039-1D79003318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3F70-2B0D-4AB6-AF71-26F85D50A8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AFB0-FC3C-474D-BCB8-A495BCEAB0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C279-9821-4527-9D19-435EA5A34D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2733840" y="1039680"/>
            <a:ext cx="2838240" cy="40968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2843280" y="2421000"/>
            <a:ext cx="3047760" cy="373356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6"/>
          <p:cNvSpPr/>
          <p:nvPr/>
        </p:nvSpPr>
        <p:spPr>
          <a:xfrm>
            <a:off x="3892680" y="4829040"/>
            <a:ext cx="20764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40987"/>
          <p:cNvSpPr/>
          <p:nvPr/>
        </p:nvSpPr>
        <p:spPr>
          <a:xfrm>
            <a:off x="2793960" y="5148360"/>
            <a:ext cx="2292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40988"/>
          <p:cNvSpPr/>
          <p:nvPr/>
        </p:nvSpPr>
        <p:spPr>
          <a:xfrm>
            <a:off x="2743200" y="5497560"/>
            <a:ext cx="3484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40989"/>
          <p:cNvSpPr/>
          <p:nvPr/>
        </p:nvSpPr>
        <p:spPr>
          <a:xfrm>
            <a:off x="2610000" y="5867280"/>
            <a:ext cx="26413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4" name="图片 132097" descr=""/>
          <p:cNvPicPr/>
          <p:nvPr/>
        </p:nvPicPr>
        <p:blipFill>
          <a:blip r:embed="rId1"/>
          <a:stretch/>
        </p:blipFill>
        <p:spPr>
          <a:xfrm>
            <a:off x="730080" y="968400"/>
            <a:ext cx="7429680" cy="4591080"/>
          </a:xfrm>
          <a:prstGeom prst="rect">
            <a:avLst/>
          </a:prstGeom>
          <a:ln w="0">
            <a:noFill/>
          </a:ln>
        </p:spPr>
      </p:pic>
      <p:sp>
        <p:nvSpPr>
          <p:cNvPr id="1375" name="矩形 132098"/>
          <p:cNvSpPr/>
          <p:nvPr/>
        </p:nvSpPr>
        <p:spPr>
          <a:xfrm>
            <a:off x="944640" y="1778040"/>
            <a:ext cx="7068960" cy="80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矩形 132099"/>
          <p:cNvSpPr/>
          <p:nvPr/>
        </p:nvSpPr>
        <p:spPr>
          <a:xfrm>
            <a:off x="1295280" y="2701800"/>
            <a:ext cx="4973760" cy="80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132100"/>
          <p:cNvSpPr/>
          <p:nvPr/>
        </p:nvSpPr>
        <p:spPr>
          <a:xfrm>
            <a:off x="861840" y="4613400"/>
            <a:ext cx="4264200" cy="40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132101"/>
          <p:cNvSpPr/>
          <p:nvPr/>
        </p:nvSpPr>
        <p:spPr>
          <a:xfrm>
            <a:off x="1066680" y="5168880"/>
            <a:ext cx="426420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9" name="图片 131073" descr=""/>
          <p:cNvPicPr/>
          <p:nvPr/>
        </p:nvPicPr>
        <p:blipFill>
          <a:blip r:embed="rId1"/>
          <a:stretch/>
        </p:blipFill>
        <p:spPr>
          <a:xfrm>
            <a:off x="766800" y="831960"/>
            <a:ext cx="6086520" cy="4152960"/>
          </a:xfrm>
          <a:prstGeom prst="rect">
            <a:avLst/>
          </a:prstGeom>
          <a:ln w="0">
            <a:noFill/>
          </a:ln>
        </p:spPr>
      </p:pic>
      <p:sp>
        <p:nvSpPr>
          <p:cNvPr id="1380" name="矩形 131074"/>
          <p:cNvSpPr/>
          <p:nvPr/>
        </p:nvSpPr>
        <p:spPr>
          <a:xfrm>
            <a:off x="843120" y="1316160"/>
            <a:ext cx="61452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矩形 131075"/>
          <p:cNvSpPr/>
          <p:nvPr/>
        </p:nvSpPr>
        <p:spPr>
          <a:xfrm>
            <a:off x="996840" y="1800360"/>
            <a:ext cx="61452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矩形 131076"/>
          <p:cNvSpPr/>
          <p:nvPr/>
        </p:nvSpPr>
        <p:spPr>
          <a:xfrm>
            <a:off x="668160" y="3176640"/>
            <a:ext cx="61455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31077"/>
          <p:cNvSpPr/>
          <p:nvPr/>
        </p:nvSpPr>
        <p:spPr>
          <a:xfrm>
            <a:off x="1100160" y="3649680"/>
            <a:ext cx="61452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131078"/>
          <p:cNvSpPr/>
          <p:nvPr/>
        </p:nvSpPr>
        <p:spPr>
          <a:xfrm>
            <a:off x="1152360" y="4051440"/>
            <a:ext cx="61452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131079"/>
          <p:cNvSpPr/>
          <p:nvPr/>
        </p:nvSpPr>
        <p:spPr>
          <a:xfrm>
            <a:off x="1182600" y="4565520"/>
            <a:ext cx="614520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图片 130049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5400720" cy="2876760"/>
          </a:xfrm>
          <a:prstGeom prst="rect">
            <a:avLst/>
          </a:prstGeom>
          <a:ln w="0">
            <a:noFill/>
          </a:ln>
        </p:spPr>
      </p:pic>
      <p:sp>
        <p:nvSpPr>
          <p:cNvPr id="1387" name="矩形 130050"/>
          <p:cNvSpPr/>
          <p:nvPr/>
        </p:nvSpPr>
        <p:spPr>
          <a:xfrm>
            <a:off x="760320" y="1366920"/>
            <a:ext cx="5446800" cy="40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130051"/>
          <p:cNvSpPr/>
          <p:nvPr/>
        </p:nvSpPr>
        <p:spPr>
          <a:xfrm>
            <a:off x="966960" y="1808280"/>
            <a:ext cx="5446440" cy="40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矩形 130052"/>
          <p:cNvSpPr/>
          <p:nvPr/>
        </p:nvSpPr>
        <p:spPr>
          <a:xfrm>
            <a:off x="1141560" y="2281320"/>
            <a:ext cx="5446440" cy="40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130053"/>
          <p:cNvSpPr/>
          <p:nvPr/>
        </p:nvSpPr>
        <p:spPr>
          <a:xfrm>
            <a:off x="1192320" y="2814480"/>
            <a:ext cx="544644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矩形 130054"/>
          <p:cNvSpPr/>
          <p:nvPr/>
        </p:nvSpPr>
        <p:spPr>
          <a:xfrm>
            <a:off x="1243080" y="3246480"/>
            <a:ext cx="544680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2" name="图片 129025" descr=""/>
          <p:cNvPicPr/>
          <p:nvPr/>
        </p:nvPicPr>
        <p:blipFill>
          <a:blip r:embed="rId1"/>
          <a:stretch/>
        </p:blipFill>
        <p:spPr>
          <a:xfrm>
            <a:off x="250920" y="876240"/>
            <a:ext cx="8057880" cy="4191120"/>
          </a:xfrm>
          <a:prstGeom prst="rect">
            <a:avLst/>
          </a:prstGeom>
          <a:ln w="0">
            <a:noFill/>
          </a:ln>
        </p:spPr>
      </p:pic>
      <p:sp>
        <p:nvSpPr>
          <p:cNvPr id="1393" name="矩形 129026"/>
          <p:cNvSpPr/>
          <p:nvPr/>
        </p:nvSpPr>
        <p:spPr>
          <a:xfrm>
            <a:off x="730080" y="2271600"/>
            <a:ext cx="6802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129027"/>
          <p:cNvSpPr/>
          <p:nvPr/>
        </p:nvSpPr>
        <p:spPr>
          <a:xfrm>
            <a:off x="762120" y="2744640"/>
            <a:ext cx="6802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矩形 129028"/>
          <p:cNvSpPr/>
          <p:nvPr/>
        </p:nvSpPr>
        <p:spPr>
          <a:xfrm>
            <a:off x="803160" y="3187800"/>
            <a:ext cx="6802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129029"/>
          <p:cNvSpPr/>
          <p:nvPr/>
        </p:nvSpPr>
        <p:spPr>
          <a:xfrm>
            <a:off x="773280" y="3649680"/>
            <a:ext cx="6802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矩形 129030"/>
          <p:cNvSpPr/>
          <p:nvPr/>
        </p:nvSpPr>
        <p:spPr>
          <a:xfrm>
            <a:off x="587520" y="4122720"/>
            <a:ext cx="6802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129031"/>
          <p:cNvSpPr/>
          <p:nvPr/>
        </p:nvSpPr>
        <p:spPr>
          <a:xfrm>
            <a:off x="681120" y="4605480"/>
            <a:ext cx="6802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图片 128001" descr=""/>
          <p:cNvPicPr/>
          <p:nvPr/>
        </p:nvPicPr>
        <p:blipFill>
          <a:blip r:embed="rId1"/>
          <a:stretch/>
        </p:blipFill>
        <p:spPr>
          <a:xfrm>
            <a:off x="809640" y="690480"/>
            <a:ext cx="7524720" cy="5477040"/>
          </a:xfrm>
          <a:prstGeom prst="rect">
            <a:avLst/>
          </a:prstGeom>
          <a:ln w="0">
            <a:noFill/>
          </a:ln>
        </p:spPr>
      </p:pic>
      <p:sp>
        <p:nvSpPr>
          <p:cNvPr id="1400" name="矩形 128002"/>
          <p:cNvSpPr/>
          <p:nvPr/>
        </p:nvSpPr>
        <p:spPr>
          <a:xfrm>
            <a:off x="790560" y="2292480"/>
            <a:ext cx="7450200" cy="76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128003"/>
          <p:cNvSpPr/>
          <p:nvPr/>
        </p:nvSpPr>
        <p:spPr>
          <a:xfrm>
            <a:off x="1427040" y="3154320"/>
            <a:ext cx="564048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矩形 128004"/>
          <p:cNvSpPr/>
          <p:nvPr/>
        </p:nvSpPr>
        <p:spPr>
          <a:xfrm>
            <a:off x="1386000" y="3616200"/>
            <a:ext cx="564012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128005"/>
          <p:cNvSpPr/>
          <p:nvPr/>
        </p:nvSpPr>
        <p:spPr>
          <a:xfrm>
            <a:off x="635040" y="4078440"/>
            <a:ext cx="6092640" cy="77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128006"/>
          <p:cNvSpPr/>
          <p:nvPr/>
        </p:nvSpPr>
        <p:spPr>
          <a:xfrm>
            <a:off x="666720" y="4889520"/>
            <a:ext cx="6093000" cy="77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矩形 128007"/>
          <p:cNvSpPr/>
          <p:nvPr/>
        </p:nvSpPr>
        <p:spPr>
          <a:xfrm>
            <a:off x="1406520" y="5743440"/>
            <a:ext cx="564048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6" name="图片 126977" descr=""/>
          <p:cNvPicPr/>
          <p:nvPr/>
        </p:nvPicPr>
        <p:blipFill>
          <a:blip r:embed="rId1"/>
          <a:stretch/>
        </p:blipFill>
        <p:spPr>
          <a:xfrm>
            <a:off x="222120" y="873000"/>
            <a:ext cx="7581960" cy="5315040"/>
          </a:xfrm>
          <a:prstGeom prst="rect">
            <a:avLst/>
          </a:prstGeom>
          <a:ln w="0">
            <a:noFill/>
          </a:ln>
        </p:spPr>
      </p:pic>
      <p:sp>
        <p:nvSpPr>
          <p:cNvPr id="1407" name="矩形 126978"/>
          <p:cNvSpPr/>
          <p:nvPr/>
        </p:nvSpPr>
        <p:spPr>
          <a:xfrm>
            <a:off x="750960" y="3411360"/>
            <a:ext cx="374184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矩形 126979"/>
          <p:cNvSpPr/>
          <p:nvPr/>
        </p:nvSpPr>
        <p:spPr>
          <a:xfrm>
            <a:off x="1633680" y="3854520"/>
            <a:ext cx="62481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矩形 126980"/>
          <p:cNvSpPr/>
          <p:nvPr/>
        </p:nvSpPr>
        <p:spPr>
          <a:xfrm>
            <a:off x="1438200" y="4284720"/>
            <a:ext cx="62485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矩形 126981"/>
          <p:cNvSpPr/>
          <p:nvPr/>
        </p:nvSpPr>
        <p:spPr>
          <a:xfrm>
            <a:off x="657360" y="4799160"/>
            <a:ext cx="62481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矩形 126982"/>
          <p:cNvSpPr/>
          <p:nvPr/>
        </p:nvSpPr>
        <p:spPr>
          <a:xfrm>
            <a:off x="820800" y="5292720"/>
            <a:ext cx="62481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矩形 126983"/>
          <p:cNvSpPr/>
          <p:nvPr/>
        </p:nvSpPr>
        <p:spPr>
          <a:xfrm>
            <a:off x="861840" y="5713560"/>
            <a:ext cx="62485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1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1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图片 140289" descr=""/>
          <p:cNvPicPr/>
          <p:nvPr/>
        </p:nvPicPr>
        <p:blipFill>
          <a:blip r:embed="rId1"/>
          <a:stretch/>
        </p:blipFill>
        <p:spPr>
          <a:xfrm>
            <a:off x="334800" y="996840"/>
            <a:ext cx="8525160" cy="3390840"/>
          </a:xfrm>
          <a:prstGeom prst="rect">
            <a:avLst/>
          </a:prstGeom>
          <a:ln w="0">
            <a:noFill/>
          </a:ln>
        </p:spPr>
      </p:pic>
      <p:sp>
        <p:nvSpPr>
          <p:cNvPr id="1338" name="矩形 140290"/>
          <p:cNvSpPr/>
          <p:nvPr/>
        </p:nvSpPr>
        <p:spPr>
          <a:xfrm>
            <a:off x="1611360" y="2271600"/>
            <a:ext cx="57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1"/>
          <p:cNvSpPr/>
          <p:nvPr/>
        </p:nvSpPr>
        <p:spPr>
          <a:xfrm>
            <a:off x="2052720" y="2703600"/>
            <a:ext cx="57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2"/>
          <p:cNvSpPr/>
          <p:nvPr/>
        </p:nvSpPr>
        <p:spPr>
          <a:xfrm>
            <a:off x="8278920" y="3174840"/>
            <a:ext cx="3715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图片 139265" descr=""/>
          <p:cNvPicPr/>
          <p:nvPr/>
        </p:nvPicPr>
        <p:blipFill>
          <a:blip r:embed="rId1"/>
          <a:stretch/>
        </p:blipFill>
        <p:spPr>
          <a:xfrm>
            <a:off x="433440" y="966960"/>
            <a:ext cx="8582040" cy="4695480"/>
          </a:xfrm>
          <a:prstGeom prst="rect">
            <a:avLst/>
          </a:prstGeom>
          <a:ln w="0">
            <a:noFill/>
          </a:ln>
        </p:spPr>
      </p:pic>
      <p:sp>
        <p:nvSpPr>
          <p:cNvPr id="1342" name="矩形 139266"/>
          <p:cNvSpPr/>
          <p:nvPr/>
        </p:nvSpPr>
        <p:spPr>
          <a:xfrm>
            <a:off x="8383680" y="183024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39267"/>
          <p:cNvSpPr/>
          <p:nvPr/>
        </p:nvSpPr>
        <p:spPr>
          <a:xfrm>
            <a:off x="8404200" y="30830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39268"/>
          <p:cNvSpPr/>
          <p:nvPr/>
        </p:nvSpPr>
        <p:spPr>
          <a:xfrm>
            <a:off x="8364600" y="444960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图片 138241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5867280" cy="2467080"/>
          </a:xfrm>
          <a:prstGeom prst="rect">
            <a:avLst/>
          </a:prstGeom>
          <a:ln w="0">
            <a:noFill/>
          </a:ln>
        </p:spPr>
      </p:pic>
      <p:sp>
        <p:nvSpPr>
          <p:cNvPr id="1346" name="矩形 138242"/>
          <p:cNvSpPr/>
          <p:nvPr/>
        </p:nvSpPr>
        <p:spPr>
          <a:xfrm>
            <a:off x="5249880" y="893880"/>
            <a:ext cx="7509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38243"/>
          <p:cNvSpPr/>
          <p:nvPr/>
        </p:nvSpPr>
        <p:spPr>
          <a:xfrm>
            <a:off x="5165640" y="1457280"/>
            <a:ext cx="7509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38244"/>
          <p:cNvSpPr/>
          <p:nvPr/>
        </p:nvSpPr>
        <p:spPr>
          <a:xfrm>
            <a:off x="3357720" y="2484360"/>
            <a:ext cx="7506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38245"/>
          <p:cNvSpPr/>
          <p:nvPr/>
        </p:nvSpPr>
        <p:spPr>
          <a:xfrm>
            <a:off x="4003560" y="2936880"/>
            <a:ext cx="10699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0" name="图片 137217" descr=""/>
          <p:cNvPicPr/>
          <p:nvPr/>
        </p:nvPicPr>
        <p:blipFill>
          <a:blip r:embed="rId1"/>
          <a:stretch/>
        </p:blipFill>
        <p:spPr>
          <a:xfrm>
            <a:off x="460440" y="811080"/>
            <a:ext cx="7638840" cy="4295880"/>
          </a:xfrm>
          <a:prstGeom prst="rect">
            <a:avLst/>
          </a:prstGeom>
          <a:ln w="0">
            <a:noFill/>
          </a:ln>
        </p:spPr>
      </p:pic>
      <p:sp>
        <p:nvSpPr>
          <p:cNvPr id="1351" name="矩形 137218"/>
          <p:cNvSpPr/>
          <p:nvPr/>
        </p:nvSpPr>
        <p:spPr>
          <a:xfrm>
            <a:off x="698400" y="1676520"/>
            <a:ext cx="27021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7219"/>
          <p:cNvSpPr/>
          <p:nvPr/>
        </p:nvSpPr>
        <p:spPr>
          <a:xfrm>
            <a:off x="606600" y="2128680"/>
            <a:ext cx="270180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7220"/>
          <p:cNvSpPr/>
          <p:nvPr/>
        </p:nvSpPr>
        <p:spPr>
          <a:xfrm>
            <a:off x="4284720" y="1657440"/>
            <a:ext cx="27018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7221"/>
          <p:cNvSpPr/>
          <p:nvPr/>
        </p:nvSpPr>
        <p:spPr>
          <a:xfrm>
            <a:off x="4572000" y="2151000"/>
            <a:ext cx="27018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37222"/>
          <p:cNvSpPr/>
          <p:nvPr/>
        </p:nvSpPr>
        <p:spPr>
          <a:xfrm>
            <a:off x="4572000" y="2603520"/>
            <a:ext cx="27018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7223"/>
          <p:cNvSpPr/>
          <p:nvPr/>
        </p:nvSpPr>
        <p:spPr>
          <a:xfrm>
            <a:off x="760320" y="4330800"/>
            <a:ext cx="27021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7224"/>
          <p:cNvSpPr/>
          <p:nvPr/>
        </p:nvSpPr>
        <p:spPr>
          <a:xfrm>
            <a:off x="666720" y="4834080"/>
            <a:ext cx="27018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7225"/>
          <p:cNvSpPr/>
          <p:nvPr/>
        </p:nvSpPr>
        <p:spPr>
          <a:xfrm>
            <a:off x="4159080" y="4341960"/>
            <a:ext cx="41817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7226"/>
          <p:cNvSpPr/>
          <p:nvPr/>
        </p:nvSpPr>
        <p:spPr>
          <a:xfrm>
            <a:off x="4992840" y="4781520"/>
            <a:ext cx="27018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图片 13619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124840" cy="3009960"/>
          </a:xfrm>
          <a:prstGeom prst="rect">
            <a:avLst/>
          </a:prstGeom>
          <a:ln w="0">
            <a:noFill/>
          </a:ln>
        </p:spPr>
      </p:pic>
      <p:sp>
        <p:nvSpPr>
          <p:cNvPr id="1361" name="矩形 136194"/>
          <p:cNvSpPr/>
          <p:nvPr/>
        </p:nvSpPr>
        <p:spPr>
          <a:xfrm>
            <a:off x="7642080" y="26510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2" name="图片 135169" descr=""/>
          <p:cNvPicPr/>
          <p:nvPr/>
        </p:nvPicPr>
        <p:blipFill>
          <a:blip r:embed="rId1"/>
          <a:stretch/>
        </p:blipFill>
        <p:spPr>
          <a:xfrm>
            <a:off x="439560" y="833400"/>
            <a:ext cx="8087040" cy="5114880"/>
          </a:xfrm>
          <a:prstGeom prst="rect">
            <a:avLst/>
          </a:prstGeom>
          <a:ln w="0">
            <a:noFill/>
          </a:ln>
        </p:spPr>
      </p:pic>
      <p:sp>
        <p:nvSpPr>
          <p:cNvPr id="1363" name="矩形 135170"/>
          <p:cNvSpPr/>
          <p:nvPr/>
        </p:nvSpPr>
        <p:spPr>
          <a:xfrm>
            <a:off x="7777080" y="45417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图片 134145" descr=""/>
          <p:cNvPicPr/>
          <p:nvPr/>
        </p:nvPicPr>
        <p:blipFill>
          <a:blip r:embed="rId1"/>
          <a:stretch/>
        </p:blipFill>
        <p:spPr>
          <a:xfrm>
            <a:off x="512640" y="797040"/>
            <a:ext cx="8067960" cy="5391000"/>
          </a:xfrm>
          <a:prstGeom prst="rect">
            <a:avLst/>
          </a:prstGeom>
          <a:ln w="0">
            <a:noFill/>
          </a:ln>
        </p:spPr>
      </p:pic>
      <p:sp>
        <p:nvSpPr>
          <p:cNvPr id="1365" name="矩形 134146"/>
          <p:cNvSpPr/>
          <p:nvPr/>
        </p:nvSpPr>
        <p:spPr>
          <a:xfrm>
            <a:off x="5383080" y="2835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矩形 134147"/>
          <p:cNvSpPr/>
          <p:nvPr/>
        </p:nvSpPr>
        <p:spPr>
          <a:xfrm>
            <a:off x="2166840" y="5249880"/>
            <a:ext cx="31561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134148"/>
          <p:cNvSpPr/>
          <p:nvPr/>
        </p:nvSpPr>
        <p:spPr>
          <a:xfrm>
            <a:off x="2136600" y="5773680"/>
            <a:ext cx="12747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8" name="图片 133121" descr=""/>
          <p:cNvPicPr/>
          <p:nvPr/>
        </p:nvPicPr>
        <p:blipFill>
          <a:blip r:embed="rId1"/>
          <a:stretch/>
        </p:blipFill>
        <p:spPr>
          <a:xfrm>
            <a:off x="390600" y="871560"/>
            <a:ext cx="8058240" cy="5114880"/>
          </a:xfrm>
          <a:prstGeom prst="rect">
            <a:avLst/>
          </a:prstGeom>
          <a:ln w="0">
            <a:noFill/>
          </a:ln>
        </p:spPr>
      </p:pic>
      <p:sp>
        <p:nvSpPr>
          <p:cNvPr id="1369" name="矩形 133122"/>
          <p:cNvSpPr/>
          <p:nvPr/>
        </p:nvSpPr>
        <p:spPr>
          <a:xfrm>
            <a:off x="6954840" y="1449360"/>
            <a:ext cx="6271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3123"/>
          <p:cNvSpPr/>
          <p:nvPr/>
        </p:nvSpPr>
        <p:spPr>
          <a:xfrm>
            <a:off x="912960" y="2928960"/>
            <a:ext cx="5518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3124"/>
          <p:cNvSpPr/>
          <p:nvPr/>
        </p:nvSpPr>
        <p:spPr>
          <a:xfrm>
            <a:off x="1036800" y="3452760"/>
            <a:ext cx="5518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3125"/>
          <p:cNvSpPr/>
          <p:nvPr/>
        </p:nvSpPr>
        <p:spPr>
          <a:xfrm>
            <a:off x="861840" y="4983120"/>
            <a:ext cx="66787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3126"/>
          <p:cNvSpPr/>
          <p:nvPr/>
        </p:nvSpPr>
        <p:spPr>
          <a:xfrm>
            <a:off x="933480" y="5516640"/>
            <a:ext cx="66787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30T09:50:51Z</dcterms:modified>
  <cp:revision>7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